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4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6AAB6-0B13-4A27-B4A6-773E675B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A6CF3-A413-4CBD-A579-480052B0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D588B-AACE-4F9E-A75B-814B0C7D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E3E74-D906-4FB9-B418-42E1E16D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A7CA6-00D3-4DE0-9CA9-94DE22DC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F275-FB89-4B99-B2F6-4F6E95D3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0D2F5-5E1B-4EB3-8822-721F9A47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9A1B0-D48A-474E-9A4B-F0DF2ABC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641C8-B647-4EFA-B296-E5D43961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A38-3C26-40F6-AFAC-7839C4F4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3AD-6939-4065-99C2-5E5DF482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E26-F19F-48DE-B84B-845C5E37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E04-982A-4B75-B43C-621FF1AA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3EA-3FFC-4519-AAA8-94FD3307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7CF-3CE7-4566-BF57-8ECACF38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8DA-32D1-4AD2-9400-DCA42B3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6B4-492C-4C0A-A387-F8DC43A1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43F-DFF1-425E-A8EA-D28EE539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AD2-8B21-4474-B8BC-7DEA8AAE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ED5-2CF1-4D11-BABC-71709EFE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603-F4BB-468D-9DB2-63D0982F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3A87-762F-4C49-A433-5A278A66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214A-2775-4840-AF88-C399DD81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2D10-5C6B-4B80-A0B7-47973A6A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493B-432B-4F6F-92B7-C301946F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A293-226A-481E-ACB4-F1A5F255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6B27-BED1-40CA-B969-D83B68D4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9FD8-66F7-4197-835A-F67653A0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CAEE-A86C-4469-BB35-70BC964C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0769-1469-4F70-8619-ECBCCE0B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2E4D-B25E-4C7B-9C80-8904E7FA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B1A8-64B7-48A4-A608-E97AC681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3DB2-5159-44C2-A42A-294C3DE1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A3C9-2217-473B-9095-E50A3B6A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37B6-CB0F-48C2-AD52-88AE5820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44E66-1276-4FB6-8D05-56D6B9F2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609C-AFD5-4CC0-AF2B-3B086846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C7647-C3C2-4BDF-8C8E-E6D0C5B2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5DDB5-5C8E-4A9D-9651-95DB649A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0324-AF40-4984-A226-02809B79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45E61-DA88-462B-84B6-DC40D5A1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7C36-E5FE-4D58-ADC5-498EE791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E0AB-2EAA-4202-BCB1-D2AB932C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9002-129E-4ECB-8A30-CCB03A37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A41CD-A026-41D3-8A2B-A165639E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B9E85-7FF5-494B-A368-F551B874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93682-2FC0-4B84-B991-558B8B1B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4B8A-6E74-4161-BC4E-E95934E0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3BD58-F184-48EE-B7D7-E8398ADF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1543F-5AC4-46D7-825D-22802475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54092-17E4-41AA-AD89-588167CB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9746-6742-4FA2-81BF-7087121C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322DE-582B-4DA7-B0CB-A90C86AC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0F52-52B7-4DD5-9798-47876E6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33E89-DFB3-4ED4-9AE7-3DB89680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38D0-E95B-439E-ACC9-F58F35B9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A198E-B7F6-4DBE-9D08-71ACAC5E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5D01C-E0C9-4C69-8923-A9896140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55F0E-0F50-45C4-97EB-8FA0ACC8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E833C-FC1E-4793-8F26-C822EB0F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73AB5-D76C-4296-A9CA-07D4C784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1ACD7-E3B3-45DA-8B51-8A8C8BCD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2EE7D-EF2F-4217-8FE6-2D3F1871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96098-BDCE-40D0-8D59-E0C2CECF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89230-12B5-4DD7-9084-89DA6A9D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F7555-D000-42AC-AC09-4A1F13CF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0FC2B-84FA-4B74-99A2-FD37F479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81185-B594-4022-8A14-D8529517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9453F-096C-43F4-B9BD-962EB228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85421-4621-44D8-ACB1-0E4768AD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71F0D-A136-46D2-9247-AD9AF0DE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0AAB4-69C1-48B2-83ED-CC25518F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63C12-3521-4310-80C1-EF0BC11A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5DE17-7C25-464A-B30E-14789FA9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8701F-47A9-473F-9668-8543D95F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FBAD3-ECE7-4C89-B997-68C6C322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FE97E-7308-4144-B674-97F8BCBA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F8362-7653-4984-8C23-915FF615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696A6-E1B1-46F9-86E6-C208A1DB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9992B-2119-42D0-9D53-1CF0411F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7EE89-9859-4719-B9C9-4425B0E0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97EDB-E390-49D4-A1F5-1782300E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C073-31B6-4445-8DDC-FA9F5146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DA446-589A-4771-9893-2D5F6589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C994D-92FE-4704-9118-27D137E0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A0735-E2F2-4FDB-A5C2-ED06B040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6B5A3-DFCA-43E7-83E1-A5D4CC33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0A2FF-BDA0-4C3E-92AB-E4F4A4D4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CDC6A-9F1F-4000-9CEF-8C3BE034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BECCC-8693-46B4-A17F-740D7165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89D5-4CF8-4C3C-A438-5FBE849C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480F7-C8A6-463B-9617-C52D210B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9372D-BA75-4E1A-AB1B-6351EBB2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14FCC-693C-43D5-9A8A-F6B12CC8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75F3D-BDD0-4D11-A1B3-3E86A7B9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E76F9-CD5E-40B4-AC36-E03BBD9C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FDCD-D077-4B28-A30A-577DACDF5D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ight Triangle 1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89" name="Freeform 19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20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" name="Freeform 22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2" name="Freeform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4" name="Straight Connector 23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9E90-D971-4EB0-B7D4-6A987B03CD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Chevron 1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Chevron 18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4419-227B-493B-AF64-0EBF60363D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943F-E6C4-48F7-B5D8-813ECCC67C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2CA8-61A9-4406-8A6A-CA669C8730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7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8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EB26-49C0-43E0-8397-C5364F3C8D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9D30-EB00-4A15-AA7A-97665DB2FD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reeform 1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Freeform 18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Right Triangle 1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0" name="Right Triangle 1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2" name="Straight Connector 2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3" name="Chevron 22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Chevron 23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9FFB-5F25-426F-A71F-479398742B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18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WordArt 5"/>
          <p:cNvSpPr txBox="1"/>
          <p:nvPr/>
        </p:nvSpPr>
        <p:spPr>
          <a:xfrm>
            <a:off x="380880" y="1219320"/>
            <a:ext cx="83059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d0d0d"/>
                </a:solidFill>
                <a:latin typeface="Arial"/>
              </a:rPr>
              <a:t>Introduction to Central Processing Unit</a:t>
            </a:r>
            <a:endParaRPr b="1" lang="en-US" sz="1800" spc="1" strike="noStrike">
              <a:ln w="0">
                <a:noFill/>
              </a:ln>
              <a:solidFill>
                <a:srgbClr val="0d0d0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d0d0d"/>
                </a:solidFill>
                <a:latin typeface="Arial"/>
              </a:rPr>
              <a:t>and Memory</a:t>
            </a:r>
            <a:endParaRPr b="1" lang="en-US" sz="1800" spc="1" strike="noStrike">
              <a:ln w="0">
                <a:noFill/>
              </a:ln>
              <a:solidFill>
                <a:srgbClr val="0d0d0d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4"/>
          <p:cNvSpPr/>
          <p:nvPr/>
        </p:nvSpPr>
        <p:spPr>
          <a:xfrm>
            <a:off x="914400" y="609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at are the types of memor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143000" y="152388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Volatile memory (Random Access Memory/RAM; Cache Memory; Virtual Memory)- Contents of memory are erased when power supply is turned off. Also called Temporary storag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Nonvolatile memory (Read Only Memory/ROM; Flash Memory)- Contents of memory are </a:t>
            </a:r>
            <a:r>
              <a:rPr b="1" lang="en-US" sz="2600" spc="-1" strike="noStrike" u="sng">
                <a:solidFill>
                  <a:srgbClr val="0d0d0d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erased when power is turned off. Also called Permanent storag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/>
          <p:cNvSpPr/>
          <p:nvPr/>
        </p:nvSpPr>
        <p:spPr>
          <a:xfrm>
            <a:off x="68580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andom Access Memory / RA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219320" y="10666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A type of volatile memory that stores information temporarily so that it’s available to the CPU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6" descr="intel_370"/>
          <p:cNvPicPr/>
          <p:nvPr/>
        </p:nvPicPr>
        <p:blipFill>
          <a:blip r:embed="rId2"/>
          <a:stretch/>
        </p:blipFill>
        <p:spPr>
          <a:xfrm>
            <a:off x="762120" y="342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ram"/>
          <p:cNvPicPr/>
          <p:nvPr/>
        </p:nvPicPr>
        <p:blipFill>
          <a:blip r:embed="rId3"/>
          <a:stretch/>
        </p:blipFill>
        <p:spPr>
          <a:xfrm>
            <a:off x="5410080" y="27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8"/>
          <p:cNvSpPr/>
          <p:nvPr/>
        </p:nvSpPr>
        <p:spPr>
          <a:xfrm>
            <a:off x="2286000" y="4495680"/>
            <a:ext cx="4724280" cy="228600"/>
          </a:xfrm>
          <a:prstGeom prst="rightArrow">
            <a:avLst>
              <a:gd name="adj1" fmla="val 50000"/>
              <a:gd name="adj2" fmla="val 516654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2438280" y="4038480"/>
            <a:ext cx="3810240" cy="228600"/>
          </a:xfrm>
          <a:prstGeom prst="leftArrow">
            <a:avLst>
              <a:gd name="adj1" fmla="val 50000"/>
              <a:gd name="adj2" fmla="val 4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685800" y="609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at are the different types of RA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143000" y="1523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Dynamic RAM- A memory chip that needs to be refreshed periodically or it loses its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1523880" y="2514600"/>
            <a:ext cx="67820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Synchronous DRAM (SDRAM)- Synchronized with the computer’s system clo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Rambus DRAM (RDRAM)- Uses fast bus to send and receive data within one clock cycle. Faster than SDR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Double Data Rate SDRAM (DDR SDRAM)- A type of SDRAM that can send and receive data within one clock cycl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924680" y="5867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ingst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"/>
          <p:cNvSpPr/>
          <p:nvPr/>
        </p:nvSpPr>
        <p:spPr>
          <a:xfrm>
            <a:off x="838080" y="60948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609480" y="3808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at is a memory modul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066680" y="990720"/>
            <a:ext cx="6324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A narrow printed circuit board that holds memory chi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Three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1676520" y="2819520"/>
            <a:ext cx="56386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Single Inline Memory Module (SIMM)- 30 or 72 pin connectors. Available in 1MB, 4MB, 16MB, and 32MB ver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Dual Inline Memory Module (DIMM)- 168 or 184 pin connectors. Available in 8MB, 16MB, 32MB, 64MB, 128MB, 256MB, and 512MB ver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Rambus Inline Memory Module (RIM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7924680" y="5867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ingst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SIMMDIMM"/>
          <p:cNvPicPr/>
          <p:nvPr/>
        </p:nvPicPr>
        <p:blipFill>
          <a:blip r:embed="rId1"/>
          <a:stretch/>
        </p:blipFill>
        <p:spPr>
          <a:xfrm>
            <a:off x="2743200" y="457200"/>
            <a:ext cx="5129280" cy="60199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4572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DI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6"/>
          <p:cNvSpPr/>
          <p:nvPr/>
        </p:nvSpPr>
        <p:spPr>
          <a:xfrm flipV="1">
            <a:off x="1523880" y="1219320"/>
            <a:ext cx="12193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Line 7"/>
          <p:cNvSpPr/>
          <p:nvPr/>
        </p:nvSpPr>
        <p:spPr>
          <a:xfrm>
            <a:off x="1523880" y="1676520"/>
            <a:ext cx="121932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 flipV="1">
            <a:off x="2057400" y="3657600"/>
            <a:ext cx="685800" cy="380880"/>
          </a:xfrm>
          <a:prstGeom prst="line">
            <a:avLst/>
          </a:prstGeom>
          <a:ln w="3816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9"/>
          <p:cNvSpPr/>
          <p:nvPr/>
        </p:nvSpPr>
        <p:spPr>
          <a:xfrm>
            <a:off x="2057400" y="4038480"/>
            <a:ext cx="685800" cy="381240"/>
          </a:xfrm>
          <a:prstGeom prst="line">
            <a:avLst/>
          </a:prstGeom>
          <a:ln w="3816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10"/>
          <p:cNvSpPr/>
          <p:nvPr/>
        </p:nvSpPr>
        <p:spPr>
          <a:xfrm flipV="1">
            <a:off x="1600200" y="5409720"/>
            <a:ext cx="1066680" cy="2286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1600200" y="5638680"/>
            <a:ext cx="1066680" cy="3812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5335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SI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304920" y="34210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NOTEBOOK DI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457200" y="2658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RI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15"/>
          <p:cNvSpPr/>
          <p:nvPr/>
        </p:nvSpPr>
        <p:spPr>
          <a:xfrm>
            <a:off x="1600200" y="2895480"/>
            <a:ext cx="114300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838080" y="677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HOW DOES RAM WORK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1447920" y="190512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HIPS CONTAIN MEMORY LOCATIONS CALLED MEMORY ADDRE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THE CPU STORES AND RETRIEVES DATA BY GOING TO THE MEMORY ADDRE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8153280" y="58672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5" descr="j0213540"/>
          <p:cNvPicPr/>
          <p:nvPr/>
        </p:nvPicPr>
        <p:blipFill>
          <a:blip r:embed="rId1"/>
          <a:stretch/>
        </p:blipFill>
        <p:spPr>
          <a:xfrm>
            <a:off x="533520" y="3657600"/>
            <a:ext cx="1752480" cy="6508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intel_370"/>
          <p:cNvPicPr/>
          <p:nvPr/>
        </p:nvPicPr>
        <p:blipFill>
          <a:blip r:embed="rId2"/>
          <a:stretch/>
        </p:blipFill>
        <p:spPr>
          <a:xfrm>
            <a:off x="3505320" y="51055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91" name="Line 11"/>
          <p:cNvSpPr/>
          <p:nvPr/>
        </p:nvSpPr>
        <p:spPr>
          <a:xfrm>
            <a:off x="838080" y="4343400"/>
            <a:ext cx="3429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12"/>
          <p:cNvSpPr/>
          <p:nvPr/>
        </p:nvSpPr>
        <p:spPr>
          <a:xfrm>
            <a:off x="1371600" y="4267080"/>
            <a:ext cx="289548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3"/>
          <p:cNvSpPr/>
          <p:nvPr/>
        </p:nvSpPr>
        <p:spPr>
          <a:xfrm>
            <a:off x="1981080" y="4267080"/>
            <a:ext cx="2362320" cy="1524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17" descr="02_18"/>
          <p:cNvPicPr/>
          <p:nvPr/>
        </p:nvPicPr>
        <p:blipFill>
          <a:blip r:embed="rId3"/>
          <a:stretch/>
        </p:blipFill>
        <p:spPr>
          <a:xfrm>
            <a:off x="6248520" y="3581280"/>
            <a:ext cx="2400120" cy="2184480"/>
          </a:xfrm>
          <a:prstGeom prst="rect">
            <a:avLst/>
          </a:prstGeom>
          <a:ln w="0">
            <a:noFill/>
          </a:ln>
        </p:spPr>
      </p:pic>
      <p:sp>
        <p:nvSpPr>
          <p:cNvPr id="595" name="Line 18"/>
          <p:cNvSpPr/>
          <p:nvPr/>
        </p:nvSpPr>
        <p:spPr>
          <a:xfrm flipV="1">
            <a:off x="4343400" y="5105520"/>
            <a:ext cx="3352680" cy="838080"/>
          </a:xfrm>
          <a:prstGeom prst="line">
            <a:avLst/>
          </a:prstGeom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9"/>
          <p:cNvSpPr/>
          <p:nvPr/>
        </p:nvSpPr>
        <p:spPr>
          <a:xfrm flipV="1">
            <a:off x="4419720" y="4952520"/>
            <a:ext cx="312408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Picture 22" descr="monitor"/>
          <p:cNvPicPr/>
          <p:nvPr/>
        </p:nvPicPr>
        <p:blipFill>
          <a:blip r:embed="rId4"/>
          <a:stretch/>
        </p:blipFill>
        <p:spPr>
          <a:xfrm>
            <a:off x="2590920" y="7621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4"/>
          <p:cNvSpPr/>
          <p:nvPr/>
        </p:nvSpPr>
        <p:spPr>
          <a:xfrm>
            <a:off x="342900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27"/>
          <p:cNvSpPr/>
          <p:nvPr/>
        </p:nvSpPr>
        <p:spPr>
          <a:xfrm flipH="1" flipV="1">
            <a:off x="3962520" y="2819160"/>
            <a:ext cx="380880" cy="28954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28"/>
          <p:cNvSpPr/>
          <p:nvPr/>
        </p:nvSpPr>
        <p:spPr>
          <a:xfrm flipV="1">
            <a:off x="4419720" y="2819160"/>
            <a:ext cx="0" cy="28954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30"/>
          <p:cNvSpPr/>
          <p:nvPr/>
        </p:nvSpPr>
        <p:spPr>
          <a:xfrm>
            <a:off x="228600" y="312408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1"/>
          <p:cNvSpPr/>
          <p:nvPr/>
        </p:nvSpPr>
        <p:spPr>
          <a:xfrm>
            <a:off x="2514600" y="5943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2"/>
          <p:cNvSpPr/>
          <p:nvPr/>
        </p:nvSpPr>
        <p:spPr>
          <a:xfrm>
            <a:off x="6781680" y="2971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3"/>
          <p:cNvSpPr/>
          <p:nvPr/>
        </p:nvSpPr>
        <p:spPr>
          <a:xfrm>
            <a:off x="838080" y="1447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35"/>
          <p:cNvSpPr/>
          <p:nvPr/>
        </p:nvSpPr>
        <p:spPr>
          <a:xfrm flipH="1" flipV="1">
            <a:off x="3352680" y="2819160"/>
            <a:ext cx="914400" cy="28954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36"/>
          <p:cNvSpPr/>
          <p:nvPr/>
        </p:nvSpPr>
        <p:spPr>
          <a:xfrm>
            <a:off x="380880" y="228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RAM 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evt="end">
                                        <p:tn val="405"/>
                                      </p:cond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09" nodeType="withEffect" fill="hold" presetClass="entr" presetID="22" presetSubtype="1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evt="end">
                                        <p:tn val="409"/>
                                      </p:cond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7" dur="1" fill="hold">
                                    <p:stCondLst>
                                      <p:cond evt="end">
                                        <p:tn val="414"/>
                                      </p:cond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19"/>
                                      </p:cond>
                                    </p:stCondLst>
                                  </p:cTn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500"/>
                            </p:stCondLst>
                            <p:childTnLst>
                              <p:par>
                                <p:cTn id="429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2" presetSubtype="4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914400" y="6858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at is cache memor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219320" y="137160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Primary cache (Level 1 or L1)- Located within the CPU chip, it is the memory the microprocessor uses to store frequently used instructions and dat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Secondary cache (Level 2 or L2; Backside Cache)- Located near the CPU, it is the memory between the CPU and R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Faster than R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6" descr="cache"/>
          <p:cNvPicPr/>
          <p:nvPr/>
        </p:nvPicPr>
        <p:blipFill>
          <a:blip r:embed="rId4"/>
          <a:stretch/>
        </p:blipFill>
        <p:spPr>
          <a:xfrm>
            <a:off x="2438280" y="4572000"/>
            <a:ext cx="44960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4"/>
          <p:cNvSpPr/>
          <p:nvPr/>
        </p:nvSpPr>
        <p:spPr>
          <a:xfrm>
            <a:off x="762120" y="228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irtual memor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1295280" y="914400"/>
            <a:ext cx="685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Part of the hard disk is reserved  as R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When RAM modules become full the CPU accesses the hard disk to store and retrieve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Slower than R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6" descr="hard drive"/>
          <p:cNvPicPr/>
          <p:nvPr/>
        </p:nvPicPr>
        <p:blipFill>
          <a:blip r:embed="rId4"/>
          <a:stretch/>
        </p:blipFill>
        <p:spPr>
          <a:xfrm>
            <a:off x="2133720" y="3505320"/>
            <a:ext cx="1752480" cy="1388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intel_370"/>
          <p:cNvPicPr/>
          <p:nvPr/>
        </p:nvPicPr>
        <p:blipFill>
          <a:blip r:embed="rId5"/>
          <a:stretch/>
        </p:blipFill>
        <p:spPr>
          <a:xfrm>
            <a:off x="3733920" y="5486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post office"/>
          <p:cNvPicPr/>
          <p:nvPr/>
        </p:nvPicPr>
        <p:blipFill>
          <a:blip r:embed="rId6"/>
          <a:stretch/>
        </p:blipFill>
        <p:spPr>
          <a:xfrm>
            <a:off x="6095880" y="3657600"/>
            <a:ext cx="2067120" cy="1879560"/>
          </a:xfrm>
          <a:prstGeom prst="rect">
            <a:avLst/>
          </a:prstGeom>
          <a:ln w="0">
            <a:noFill/>
          </a:ln>
        </p:spPr>
      </p:pic>
      <p:sp>
        <p:nvSpPr>
          <p:cNvPr id="615" name="Line 10"/>
          <p:cNvSpPr/>
          <p:nvPr/>
        </p:nvSpPr>
        <p:spPr>
          <a:xfrm flipV="1">
            <a:off x="4419720" y="5029200"/>
            <a:ext cx="2209680" cy="990720"/>
          </a:xfrm>
          <a:prstGeom prst="line">
            <a:avLst/>
          </a:prstGeom>
          <a:ln w="50760">
            <a:solidFill>
              <a:srgbClr val="cc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11"/>
          <p:cNvSpPr/>
          <p:nvPr/>
        </p:nvSpPr>
        <p:spPr>
          <a:xfrm flipH="1" flipV="1">
            <a:off x="3505320" y="4038480"/>
            <a:ext cx="838080" cy="1905120"/>
          </a:xfrm>
          <a:prstGeom prst="line">
            <a:avLst/>
          </a:prstGeom>
          <a:ln w="50760">
            <a:solidFill>
              <a:srgbClr val="cc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 flipH="1" flipV="1">
            <a:off x="3200400" y="4114800"/>
            <a:ext cx="914400" cy="19051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6400800" y="4191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FUL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76212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at is the Central Processing Unit (CPU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57200" y="99072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A central processing unit (CPU) is the electronic circuitry within a computer that carries out the instructions of a computer program by performing the basic arithmetic, logical, control and input/output (I/O) operations specified by the instruc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6" descr="cpu1.jpg"/>
          <p:cNvPicPr/>
          <p:nvPr/>
        </p:nvPicPr>
        <p:blipFill>
          <a:blip r:embed="rId2"/>
          <a:stretch/>
        </p:blipFill>
        <p:spPr>
          <a:xfrm>
            <a:off x="1676520" y="3733920"/>
            <a:ext cx="2819160" cy="23065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cpu2.jpg"/>
          <p:cNvPicPr/>
          <p:nvPr/>
        </p:nvPicPr>
        <p:blipFill>
          <a:blip r:embed="rId3"/>
          <a:stretch/>
        </p:blipFill>
        <p:spPr>
          <a:xfrm>
            <a:off x="5410080" y="3733920"/>
            <a:ext cx="281952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990720" y="7621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the types of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P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22096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Int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6400800" y="1752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Advanced Micro Devices (AM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9144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yri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4495680" y="4648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Motorola (App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9" descr="02_13"/>
          <p:cNvPicPr/>
          <p:nvPr/>
        </p:nvPicPr>
        <p:blipFill>
          <a:blip r:embed="rId1"/>
          <a:stretch/>
        </p:blipFill>
        <p:spPr>
          <a:xfrm>
            <a:off x="228600" y="2209680"/>
            <a:ext cx="1433520" cy="1447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1" descr="02_14"/>
          <p:cNvPicPr/>
          <p:nvPr/>
        </p:nvPicPr>
        <p:blipFill>
          <a:blip r:embed="rId2"/>
          <a:stretch/>
        </p:blipFill>
        <p:spPr>
          <a:xfrm>
            <a:off x="1905120" y="1981080"/>
            <a:ext cx="1752480" cy="1225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4" descr="02_15"/>
          <p:cNvPicPr/>
          <p:nvPr/>
        </p:nvPicPr>
        <p:blipFill>
          <a:blip r:embed="rId3"/>
          <a:stretch/>
        </p:blipFill>
        <p:spPr>
          <a:xfrm>
            <a:off x="3886200" y="2590920"/>
            <a:ext cx="1676520" cy="1171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7" descr="02_16"/>
          <p:cNvPicPr/>
          <p:nvPr/>
        </p:nvPicPr>
        <p:blipFill>
          <a:blip r:embed="rId4"/>
          <a:stretch/>
        </p:blipFill>
        <p:spPr>
          <a:xfrm>
            <a:off x="6629400" y="2971800"/>
            <a:ext cx="1982880" cy="13874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0" descr="cyrix"/>
          <p:cNvPicPr/>
          <p:nvPr/>
        </p:nvPicPr>
        <p:blipFill>
          <a:blip r:embed="rId5"/>
          <a:stretch/>
        </p:blipFill>
        <p:spPr>
          <a:xfrm>
            <a:off x="457200" y="4876920"/>
            <a:ext cx="2235240" cy="16761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1" descr="motorola"/>
          <p:cNvPicPr/>
          <p:nvPr/>
        </p:nvPicPr>
        <p:blipFill>
          <a:blip r:embed="rId6"/>
          <a:stretch/>
        </p:blipFill>
        <p:spPr>
          <a:xfrm>
            <a:off x="4876920" y="5181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23"/>
          <p:cNvSpPr/>
          <p:nvPr/>
        </p:nvSpPr>
        <p:spPr>
          <a:xfrm>
            <a:off x="304920" y="19051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Pentium IV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205740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ntium MM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6"/>
          <p:cNvSpPr/>
          <p:nvPr/>
        </p:nvSpPr>
        <p:spPr>
          <a:xfrm>
            <a:off x="4038480" y="22096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Pentium III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a2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914400" y="380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the components of the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P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295280" y="1143000"/>
            <a:ext cx="678204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ntrol un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Coordinates and controls all parts of the computer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rithmetic-Logic un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Performs arithmetic or logical oper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gis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Stores the most frequently used instructions and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8" descr="ALU_block.gif"/>
          <p:cNvPicPr/>
          <p:nvPr/>
        </p:nvPicPr>
        <p:blipFill>
          <a:blip r:embed="rId4"/>
          <a:stretch/>
        </p:blipFill>
        <p:spPr>
          <a:xfrm>
            <a:off x="1676520" y="2666880"/>
            <a:ext cx="44193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a2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83808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P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ork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295280" y="9907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rol Un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Manages four basic operations (machine cyc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762120" y="1828800"/>
            <a:ext cx="82296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Fetc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Gets next program instruction from the computer’s mem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ecod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Figure out what the program is telling the computer to d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xecu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erform the requested a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Write-back (Store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Write (store) the results to a register or to memor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1447920" y="4191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rithmetic-Logic Unit (AL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erform basic arithmetic or logic oper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3"/>
          <p:cNvSpPr/>
          <p:nvPr/>
        </p:nvSpPr>
        <p:spPr>
          <a:xfrm>
            <a:off x="762120" y="5105520"/>
            <a:ext cx="64008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, Subtract, Multiply, Div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two items to see which one is larger or small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"/>
          <p:cNvSpPr/>
          <p:nvPr/>
        </p:nvSpPr>
        <p:spPr>
          <a:xfrm>
            <a:off x="3048120" y="4343400"/>
            <a:ext cx="358128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3048120" y="2514600"/>
            <a:ext cx="1828800" cy="18288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876920" y="2514600"/>
            <a:ext cx="1752480" cy="1828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12408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41008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4197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WordArt 22"/>
          <p:cNvSpPr txBox="1"/>
          <p:nvPr/>
        </p:nvSpPr>
        <p:spPr>
          <a:xfrm rot="19428600">
            <a:off x="3314880" y="3489480"/>
            <a:ext cx="1768320" cy="726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9459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DECOD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542" name="WordArt 23"/>
          <p:cNvSpPr txBox="1"/>
          <p:nvPr/>
        </p:nvSpPr>
        <p:spPr>
          <a:xfrm rot="2618400">
            <a:off x="5028840" y="3505320"/>
            <a:ext cx="129528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XECUT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543" name="WordArt 24"/>
          <p:cNvSpPr txBox="1"/>
          <p:nvPr/>
        </p:nvSpPr>
        <p:spPr>
          <a:xfrm rot="7581000">
            <a:off x="5070240" y="5117760"/>
            <a:ext cx="1128600" cy="366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STOR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  <p:sp>
        <p:nvSpPr>
          <p:cNvPr id="544" name="WordArt 25"/>
          <p:cNvSpPr txBox="1"/>
          <p:nvPr/>
        </p:nvSpPr>
        <p:spPr>
          <a:xfrm rot="13903800">
            <a:off x="3552840" y="5075280"/>
            <a:ext cx="10476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f5fa"/>
                </a:solidFill>
                <a:latin typeface="Arial Black"/>
              </a:rPr>
              <a:t>FETCH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def5fa"/>
              </a:solidFill>
              <a:latin typeface="Arial Black"/>
              <a:ea typeface="Arial Black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685800" y="6094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How a CPU 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path" presetID="64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4.45087E-006 L -0.00416 -0.15099 E">
                                      <p:cBhvr>
                                        <p:cTn id="196" dur="1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500"/>
                            </p:stCondLst>
                            <p:childTnLst>
                              <p:par>
                                <p:cTn id="198" nodeType="after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38889E-006 3.93064E-006 L 0.08247 0.00485 E">
                                      <p:cBhvr>
                                        <p:cTn id="199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500"/>
                            </p:stCondLst>
                            <p:childTnLst>
                              <p:par>
                                <p:cTn id="201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4.9711E-006 L -0.00416 0.09988 E">
                                      <p:cBhvr>
                                        <p:cTn id="202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16667E-006 -3.12139E-006 L -0.08282 -0.00624 E">
                                      <p:cBhvr>
                                        <p:cTn id="205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a2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914400" y="4572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etermines a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P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erformanc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219320" y="1371600"/>
            <a:ext cx="701028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ata bus wid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The number of pathways within the CPU that transfers data (8, 16, 32, 6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ord siz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The maximum number of bits of data that the CPU can process at a time (8 bits, 16 bits, 32 bits, 64 bi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perations per cycle (clock speed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The number of clock cycles per second measured in Megahertz (MHz) or Gigahertz (GHz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200400" y="4751640"/>
            <a:ext cx="4038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Specifications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Clock Speed: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 1.0 GHz </a:t>
            </a:r>
            <a:br>
              <a:rPr sz="1400"/>
            </a:b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System / Front Side Bus Speed: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 133 MHz </a:t>
            </a:r>
            <a:br>
              <a:rPr sz="1400"/>
            </a:b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Level 1 Cache: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 16K Instruction + 16K dat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</a:rPr>
              <a:t>Level 2 Cache: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 256 KB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7" descr="intel_370"/>
          <p:cNvPicPr/>
          <p:nvPr/>
        </p:nvPicPr>
        <p:blipFill>
          <a:blip r:embed="rId4"/>
          <a:stretch/>
        </p:blipFill>
        <p:spPr>
          <a:xfrm>
            <a:off x="1066680" y="4800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WordArt 5"/>
          <p:cNvSpPr txBox="1"/>
          <p:nvPr/>
        </p:nvSpPr>
        <p:spPr>
          <a:xfrm>
            <a:off x="2971800" y="762120"/>
            <a:ext cx="2662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mory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1" name="Picture 2" descr="200px-DDR_RAM-3.jpg"/>
          <p:cNvPicPr/>
          <p:nvPr/>
        </p:nvPicPr>
        <p:blipFill>
          <a:blip r:embed="rId2"/>
          <a:stretch/>
        </p:blipFill>
        <p:spPr>
          <a:xfrm>
            <a:off x="380880" y="2514600"/>
            <a:ext cx="4572000" cy="1349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Hard-drive.jpg"/>
          <p:cNvPicPr/>
          <p:nvPr/>
        </p:nvPicPr>
        <p:blipFill>
          <a:blip r:embed="rId3"/>
          <a:stretch/>
        </p:blipFill>
        <p:spPr>
          <a:xfrm>
            <a:off x="4952880" y="4267080"/>
            <a:ext cx="289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914400" y="380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at is Memor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1371600" y="114300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he physical device used to store programs (sequences of instructions) or data on a temporary or permanent basis for use in a computer or other digital electronic devi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emory"/>
          <p:cNvPicPr/>
          <p:nvPr/>
        </p:nvPicPr>
        <p:blipFill>
          <a:blip r:embed="rId2"/>
          <a:stretch/>
        </p:blipFill>
        <p:spPr>
          <a:xfrm>
            <a:off x="762120" y="2971800"/>
            <a:ext cx="4800600" cy="22924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9" descr="bioschip"/>
          <p:cNvPicPr/>
          <p:nvPr/>
        </p:nvPicPr>
        <p:blipFill>
          <a:blip r:embed="rId3"/>
          <a:stretch/>
        </p:blipFill>
        <p:spPr>
          <a:xfrm>
            <a:off x="6095880" y="4191120"/>
            <a:ext cx="24386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30T01:34:39Z</dcterms:created>
  <dc:creator>Robert Koziel</dc:creator>
  <dc:description/>
  <dc:language>en-US</dc:language>
  <cp:lastModifiedBy>saad</cp:lastModifiedBy>
  <dcterms:modified xsi:type="dcterms:W3CDTF">2016-07-25T19:04:40Z</dcterms:modified>
  <cp:revision>68</cp:revision>
  <dc:subject/>
  <dc:title>Slide 1</dc:title>
</cp:coreProperties>
</file>