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4.jpeg" ContentType="image/jpeg"/>
  <Override PartName="/ppt/media/image13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BBF2A-D21C-4DFF-9401-E97AB51F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7BA86-D4B5-407F-A673-EF39E6AC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30575-9679-4785-9DBA-764364E1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2B9FF-AF13-48F3-8274-FABE7337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9609B-FE96-48D5-A75E-C941739A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BD98B-E69A-4C40-B6AC-FFB0407E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8AE8B-E2B4-4A6A-95D6-A1DA614B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0114A-45A6-4E59-A9BB-2FC45E3A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3EF22-EC05-4C3B-8698-E51FCB4D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FEC-2DBB-42DD-89B0-2CB9E106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DE0-8100-429D-AED7-9AF5A87E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3C9-EB7D-444F-A87F-B04281D8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9AF-381E-4558-8C77-D73C6A39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92C-F6B9-4752-B7E0-5C939AE8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D3B-51E8-4B0B-BA02-D3F6E31E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46E-9ECE-4F8A-A55F-A91B0476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9FD0-386A-408E-8160-453F8D91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47D-E917-4B50-992E-6EECFBD8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612-F135-4F07-A33C-AB8911FA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ED4-B9DE-4CC1-A195-B49AC096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2A8-3B68-4DAC-B417-4045FF2B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3F60-88FE-444C-B24C-E8C2A76C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E547-B37B-4787-8AEA-03C0C289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5DFE-6951-4677-ADFE-6F28627B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12E4-11AE-4AE4-A125-5C18FB35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85D7-9D50-4583-8CBD-8D96E4C0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4704-C229-4BFE-A214-E31B582A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6D25-2631-4A7D-89B5-A8B2D83F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F49F-B14B-4E3C-B835-49D00DC4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2236-7A40-40FF-895F-CFEB5497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2294-BED5-4792-8C32-AEA0DEF3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AAD4-CB4A-44AD-B53B-19CE153F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6016-D38F-46A8-B5F3-35268923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52871-3146-4660-BA90-D50E2340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A4D49-C15E-4B24-A667-A72DE42C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5199B-CC02-4364-A55A-2D11E462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6122D-BAD4-47E6-B6DB-9ACF4D50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94ACF-8C66-4EE9-988C-C98D8F9D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316DD-38A4-4815-98FE-D7289809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C4969-C6D9-43D1-BC1D-55803522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C5104-118A-4002-A970-95AA7241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83364-1B63-40E0-BFC3-45470732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9D0DE-19C0-4B74-9076-F4E123F8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15C55-7F00-4384-8D80-EB2100D7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F6328-8253-4CB9-8F8F-B3285D5B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88D8C-BDD6-464A-868B-1DD38FE1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7C2EA-8538-413E-BE71-9F9B0377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040B1-511E-44BB-8182-89BB35B9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9C6DB-331A-4515-9F1E-2A8FB760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83FA4-83D5-4A8B-A137-F63BDA4C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74442-AD9C-4B9A-835A-F44BD102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B2CC4-81B8-4AE5-95D3-D199CB21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013FB-349A-46AC-B882-88C70D86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29E12-1D81-47A3-8FAE-BD797832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0F471-D97D-4F8C-BF82-BC9749B7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6ADA5-4F9E-433E-A843-8B9998CA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5E7FE-3D72-4F8E-8884-EE11EFFE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7E6BB-8352-42EA-9778-132F0FAC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FAE7F-9F46-4606-AF35-0CEA88A2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18B8E-87D9-4861-B5D7-44711DDA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A688D-B5AB-4112-9D5B-94BE55E0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363D0-D7D8-41C6-89AC-1DA71774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144F6-7E1A-4E02-8ED5-514CD7A5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8A864-E847-44EF-B453-74BD53FF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DDE54-80E0-43B4-996E-F4E404F9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272C4-76B7-45E2-B9D7-DAEB9829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B40BC-0260-4AB0-B83C-B7168E9F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E3FC3-B2D3-4B0A-8AC8-177789AD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291C9-5507-4FF1-B2F0-A6A1796D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915D9-25F6-4DA5-9D26-CC617D07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DEF2E-81C3-404E-8FAE-0E49B38A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96A88-E4CC-427B-B10E-087A0270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2A724-CAF7-46F6-99B7-5302F247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3DB06-208D-4B70-8B29-FA731FCE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4E557-F0CD-44DC-9707-A07A1C35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7FE7F-1E00-41E9-911B-004A639A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A8D49-4A74-4E90-B9D2-2F114AD7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7F889-4BDE-4B8B-9DE7-2874D3E3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853C1-DEEB-4E61-A3DC-CCA7406A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9911F-67A5-4F72-8699-D9D29F38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68812-5C00-441A-A262-470D4612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0B3B1-E86F-4B91-B39A-D88D1202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74B5A-8CA7-4ACE-87FB-6AA371EB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CD277-8A2B-4C35-8724-9ECF3579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37B5B-8009-415E-BBA9-DED2B0B7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1E1B0-906B-4660-9B0A-E8552C57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D1CF0-074D-4BA6-8928-D4A3295E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E80C2-A9C5-4181-8EE1-970F8E92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4566D-0646-4127-9DD6-313B453A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54586-DE23-4F07-9091-390CD6F7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824BB-DA09-44EB-A382-AE29540D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74BBA-6FCA-41A0-ACB0-E61C4849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B2880-B3FC-4FE9-82F7-2171E88E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74522-AE1C-463D-875B-A0CB1C52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93D80-E3C8-4526-9175-B4AA7CCF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6491C-A26A-40CE-9E07-A6E22FF8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8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2" name="AutoShape 7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8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7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8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4E00-EA8F-4B8A-88FB-EC51CA7F05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ight Triangle 1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18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89" name="Freeform 19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20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" name="Freeform 22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2" name="Freeform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4" name="Straight Connector 23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63E3-A5AB-41B6-9CD0-00649C58F8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8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Chevron 1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Chevron 18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E85F-F250-4119-A95C-A51B5CDC8A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7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8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6F09-B38A-4CBB-8F67-9E45CC1C15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9208-3DAA-4228-9B41-2D183878C6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7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8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FC98-0DB8-4F0C-A014-FAF253FC4B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6090-22D6-4BE0-97B2-289F29E9C5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reeform 1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Freeform 18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Right Triangle 1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0" name="Right Triangle 1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2" name="Straight Connector 2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3" name="Chevron 22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Chevron 23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1122-1985-4948-9D62-260F5513D0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18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WordArt 5"/>
          <p:cNvSpPr txBox="1"/>
          <p:nvPr/>
        </p:nvSpPr>
        <p:spPr>
          <a:xfrm>
            <a:off x="380880" y="1219320"/>
            <a:ext cx="830592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d0d0d"/>
                </a:solidFill>
                <a:latin typeface="Arial"/>
              </a:rPr>
              <a:t>Introduction to Central Processing Unit</a:t>
            </a:r>
            <a:endParaRPr b="1" lang="en-US" sz="1800" spc="1" strike="noStrike">
              <a:ln w="0">
                <a:noFill/>
              </a:ln>
              <a:solidFill>
                <a:srgbClr val="0d0d0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d0d0d"/>
                </a:solidFill>
                <a:latin typeface="Arial"/>
              </a:rPr>
              <a:t>and Memory</a:t>
            </a:r>
            <a:endParaRPr b="1" lang="en-US" sz="1800" spc="1" strike="noStrike">
              <a:ln w="0">
                <a:noFill/>
              </a:ln>
              <a:solidFill>
                <a:srgbClr val="0d0d0d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4"/>
          <p:cNvSpPr/>
          <p:nvPr/>
        </p:nvSpPr>
        <p:spPr>
          <a:xfrm>
            <a:off x="914400" y="6094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What are the types of memor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143000" y="1523880"/>
            <a:ext cx="7772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Volatile memory (Random Access Memory/RAM; Cache Memory; Virtual Memory)- Contents of memory are erased when power supply is turned off. Also called Temporary storag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Nonvolatile memory (Read Only Memory/ROM; Flash Memory)- Contents of memory are </a:t>
            </a:r>
            <a:r>
              <a:rPr b="1" lang="en-US" sz="2600" spc="-1" strike="noStrike" u="sng">
                <a:solidFill>
                  <a:srgbClr val="0d0d0d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erased when power is turned off. Also called Permanent storag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4"/>
          <p:cNvSpPr/>
          <p:nvPr/>
        </p:nvSpPr>
        <p:spPr>
          <a:xfrm>
            <a:off x="685800" y="380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andom Access Memory / RA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1219320" y="10666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A type of volatile memory that stores information temporarily so that it’s available to the CPU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Picture 6" descr="intel_370"/>
          <p:cNvPicPr/>
          <p:nvPr/>
        </p:nvPicPr>
        <p:blipFill>
          <a:blip r:embed="rId2"/>
          <a:stretch/>
        </p:blipFill>
        <p:spPr>
          <a:xfrm>
            <a:off x="762120" y="3429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ram"/>
          <p:cNvPicPr/>
          <p:nvPr/>
        </p:nvPicPr>
        <p:blipFill>
          <a:blip r:embed="rId3"/>
          <a:stretch/>
        </p:blipFill>
        <p:spPr>
          <a:xfrm>
            <a:off x="5410080" y="2743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8"/>
          <p:cNvSpPr/>
          <p:nvPr/>
        </p:nvSpPr>
        <p:spPr>
          <a:xfrm>
            <a:off x="2286000" y="4495680"/>
            <a:ext cx="4724280" cy="228600"/>
          </a:xfrm>
          <a:prstGeom prst="rightArrow">
            <a:avLst>
              <a:gd name="adj1" fmla="val 50000"/>
              <a:gd name="adj2" fmla="val 516654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9"/>
          <p:cNvSpPr/>
          <p:nvPr/>
        </p:nvSpPr>
        <p:spPr>
          <a:xfrm>
            <a:off x="2438280" y="4038480"/>
            <a:ext cx="3810240" cy="228600"/>
          </a:xfrm>
          <a:prstGeom prst="leftArrow">
            <a:avLst>
              <a:gd name="adj1" fmla="val 50000"/>
              <a:gd name="adj2" fmla="val 41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7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4"/>
          <p:cNvSpPr/>
          <p:nvPr/>
        </p:nvSpPr>
        <p:spPr>
          <a:xfrm>
            <a:off x="685800" y="6094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What are the different types of RAM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143000" y="1523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Dynamic RAM- A memory chip that needs to be refreshed periodically or it loses its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1523880" y="2514600"/>
            <a:ext cx="67820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Synchronous DRAM (SDRAM)- Synchronized with the computer’s system clo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Rambus DRAM (RDRAM)- Uses fast bus to send and receive data within one clock cycle. Faster than SDR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Double Data Rate SDRAM (DDR SDRAM)- A type of SDRAM that can send and receive data within one clock cycl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7924680" y="5867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ingst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4"/>
          <p:cNvSpPr/>
          <p:nvPr/>
        </p:nvSpPr>
        <p:spPr>
          <a:xfrm>
            <a:off x="838080" y="609480"/>
            <a:ext cx="7086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609480" y="3808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What is a memory modul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1066680" y="990720"/>
            <a:ext cx="6324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A narrow printed circuit board that holds memory chi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Three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1676520" y="2819520"/>
            <a:ext cx="56386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Single Inline Memory Module (SIMM)- 30 or 72 pin connectors. Available in 1MB, 4MB, 16MB, and 32MB ver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Dual Inline Memory Module (DIMM)- 168 or 184 pin connectors. Available in 8MB, 16MB, 32MB, 64MB, 128MB, 256MB, and 512MB ver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Rambus Inline Memory Module (RIMM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7924680" y="5867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ingst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4" descr="SIMMDIMM"/>
          <p:cNvPicPr/>
          <p:nvPr/>
        </p:nvPicPr>
        <p:blipFill>
          <a:blip r:embed="rId1"/>
          <a:stretch/>
        </p:blipFill>
        <p:spPr>
          <a:xfrm>
            <a:off x="2743200" y="457200"/>
            <a:ext cx="5129280" cy="601992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4572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DI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Line 6"/>
          <p:cNvSpPr/>
          <p:nvPr/>
        </p:nvSpPr>
        <p:spPr>
          <a:xfrm flipV="1">
            <a:off x="1523880" y="1219320"/>
            <a:ext cx="121932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Line 7"/>
          <p:cNvSpPr/>
          <p:nvPr/>
        </p:nvSpPr>
        <p:spPr>
          <a:xfrm>
            <a:off x="1523880" y="1676520"/>
            <a:ext cx="121932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8"/>
          <p:cNvSpPr/>
          <p:nvPr/>
        </p:nvSpPr>
        <p:spPr>
          <a:xfrm flipV="1">
            <a:off x="2057400" y="3657600"/>
            <a:ext cx="685800" cy="380880"/>
          </a:xfrm>
          <a:prstGeom prst="line">
            <a:avLst/>
          </a:prstGeom>
          <a:ln w="3816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Line 9"/>
          <p:cNvSpPr/>
          <p:nvPr/>
        </p:nvSpPr>
        <p:spPr>
          <a:xfrm>
            <a:off x="2057400" y="4038480"/>
            <a:ext cx="685800" cy="381240"/>
          </a:xfrm>
          <a:prstGeom prst="line">
            <a:avLst/>
          </a:prstGeom>
          <a:ln w="3816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10"/>
          <p:cNvSpPr/>
          <p:nvPr/>
        </p:nvSpPr>
        <p:spPr>
          <a:xfrm flipV="1">
            <a:off x="1600200" y="5409720"/>
            <a:ext cx="1066680" cy="2286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11"/>
          <p:cNvSpPr/>
          <p:nvPr/>
        </p:nvSpPr>
        <p:spPr>
          <a:xfrm>
            <a:off x="1600200" y="5638680"/>
            <a:ext cx="1066680" cy="3812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53352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SI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304920" y="342108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NOTEBOOK DI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457200" y="26589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RI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15"/>
          <p:cNvSpPr/>
          <p:nvPr/>
        </p:nvSpPr>
        <p:spPr>
          <a:xfrm>
            <a:off x="1600200" y="2895480"/>
            <a:ext cx="1143000" cy="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4"/>
          <p:cNvSpPr/>
          <p:nvPr/>
        </p:nvSpPr>
        <p:spPr>
          <a:xfrm>
            <a:off x="838080" y="677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HOW DOES RAM WORK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1447920" y="1905120"/>
            <a:ext cx="7010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CHIPS CONTAIN MEMORY LOCATIONS CALLED MEMORY ADDRE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THE CPU STORES AND RETRIEVES DATA BY GOING TO THE MEMORY ADDRE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8153280" y="58672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5" descr="j0213540"/>
          <p:cNvPicPr/>
          <p:nvPr/>
        </p:nvPicPr>
        <p:blipFill>
          <a:blip r:embed="rId1"/>
          <a:stretch/>
        </p:blipFill>
        <p:spPr>
          <a:xfrm>
            <a:off x="533520" y="3657600"/>
            <a:ext cx="1752480" cy="6508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" descr="intel_370"/>
          <p:cNvPicPr/>
          <p:nvPr/>
        </p:nvPicPr>
        <p:blipFill>
          <a:blip r:embed="rId2"/>
          <a:stretch/>
        </p:blipFill>
        <p:spPr>
          <a:xfrm>
            <a:off x="3505320" y="51055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591" name="Line 11"/>
          <p:cNvSpPr/>
          <p:nvPr/>
        </p:nvSpPr>
        <p:spPr>
          <a:xfrm>
            <a:off x="838080" y="4343400"/>
            <a:ext cx="3429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12"/>
          <p:cNvSpPr/>
          <p:nvPr/>
        </p:nvSpPr>
        <p:spPr>
          <a:xfrm>
            <a:off x="1371600" y="4267080"/>
            <a:ext cx="289548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3"/>
          <p:cNvSpPr/>
          <p:nvPr/>
        </p:nvSpPr>
        <p:spPr>
          <a:xfrm>
            <a:off x="1981080" y="4267080"/>
            <a:ext cx="2362320" cy="15242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Picture 17" descr="02_18"/>
          <p:cNvPicPr/>
          <p:nvPr/>
        </p:nvPicPr>
        <p:blipFill>
          <a:blip r:embed="rId3"/>
          <a:stretch/>
        </p:blipFill>
        <p:spPr>
          <a:xfrm>
            <a:off x="6248520" y="3581280"/>
            <a:ext cx="2400120" cy="2184480"/>
          </a:xfrm>
          <a:prstGeom prst="rect">
            <a:avLst/>
          </a:prstGeom>
          <a:ln w="0">
            <a:noFill/>
          </a:ln>
        </p:spPr>
      </p:pic>
      <p:sp>
        <p:nvSpPr>
          <p:cNvPr id="595" name="Line 18"/>
          <p:cNvSpPr/>
          <p:nvPr/>
        </p:nvSpPr>
        <p:spPr>
          <a:xfrm flipV="1">
            <a:off x="4343400" y="5105520"/>
            <a:ext cx="3352680" cy="838080"/>
          </a:xfrm>
          <a:prstGeom prst="line">
            <a:avLst/>
          </a:prstGeom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19"/>
          <p:cNvSpPr/>
          <p:nvPr/>
        </p:nvSpPr>
        <p:spPr>
          <a:xfrm flipV="1">
            <a:off x="4419720" y="4952520"/>
            <a:ext cx="312408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7" name="Picture 22" descr="monitor"/>
          <p:cNvPicPr/>
          <p:nvPr/>
        </p:nvPicPr>
        <p:blipFill>
          <a:blip r:embed="rId4"/>
          <a:stretch/>
        </p:blipFill>
        <p:spPr>
          <a:xfrm>
            <a:off x="2590920" y="7621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24"/>
          <p:cNvSpPr/>
          <p:nvPr/>
        </p:nvSpPr>
        <p:spPr>
          <a:xfrm>
            <a:off x="342900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Line 27"/>
          <p:cNvSpPr/>
          <p:nvPr/>
        </p:nvSpPr>
        <p:spPr>
          <a:xfrm flipH="1" flipV="1">
            <a:off x="3962520" y="2819160"/>
            <a:ext cx="380880" cy="289548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28"/>
          <p:cNvSpPr/>
          <p:nvPr/>
        </p:nvSpPr>
        <p:spPr>
          <a:xfrm flipV="1">
            <a:off x="4419720" y="2819160"/>
            <a:ext cx="0" cy="289548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30"/>
          <p:cNvSpPr/>
          <p:nvPr/>
        </p:nvSpPr>
        <p:spPr>
          <a:xfrm>
            <a:off x="228600" y="3124080"/>
            <a:ext cx="24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1"/>
          <p:cNvSpPr/>
          <p:nvPr/>
        </p:nvSpPr>
        <p:spPr>
          <a:xfrm>
            <a:off x="2514600" y="5943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2"/>
          <p:cNvSpPr/>
          <p:nvPr/>
        </p:nvSpPr>
        <p:spPr>
          <a:xfrm>
            <a:off x="6781680" y="2971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3"/>
          <p:cNvSpPr/>
          <p:nvPr/>
        </p:nvSpPr>
        <p:spPr>
          <a:xfrm>
            <a:off x="838080" y="1447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35"/>
          <p:cNvSpPr/>
          <p:nvPr/>
        </p:nvSpPr>
        <p:spPr>
          <a:xfrm flipH="1" flipV="1">
            <a:off x="3352680" y="2819160"/>
            <a:ext cx="914400" cy="289548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36"/>
          <p:cNvSpPr/>
          <p:nvPr/>
        </p:nvSpPr>
        <p:spPr>
          <a:xfrm>
            <a:off x="380880" y="228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RAM 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8" dur="1" fill="hold">
                                    <p:stCondLst>
                                      <p:cond evt="end">
                                        <p:tn val="405"/>
                                      </p:cond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09" nodeType="withEffect" fill="hold" presetClass="entr" presetID="22" presetSubtype="1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evt="end">
                                        <p:tn val="409"/>
                                      </p:cond>
                                    </p:stCondLst>
                                  </p:cTn>
                                  <p:tgtEl>
                                    <p:spTgt spid="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7" dur="1" fill="hold">
                                    <p:stCondLst>
                                      <p:cond evt="end">
                                        <p:tn val="414"/>
                                      </p:cond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19" nodeType="after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evt="end">
                                        <p:tn val="419"/>
                                      </p:cond>
                                    </p:stCondLst>
                                  </p:cTn>
                                  <p:tgtEl>
                                    <p:spTgt spid="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7" dur="1" fill="hold">
                                    <p:stCondLst>
                                      <p:cond evt="end">
                                        <p:tn val="424"/>
                                      </p:cond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500"/>
                            </p:stCondLst>
                            <p:childTnLst>
                              <p:par>
                                <p:cTn id="429" nodeType="after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" nodeType="afterEffect" fill="hold" presetClass="entr" presetID="22" presetSubtype="4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4"/>
          <p:cNvSpPr/>
          <p:nvPr/>
        </p:nvSpPr>
        <p:spPr>
          <a:xfrm>
            <a:off x="914400" y="6858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What is cache memor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1219320" y="137160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Primary cache (Level 1 or L1)- Located within the CPU chip, it is the memory the microprocessor uses to store frequently used instructions and dat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Secondary cache (Level 2 or L2; Backside Cache)- Located near the CPU, it is the memory between the CPU and R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Faster than R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6" descr="cache"/>
          <p:cNvPicPr/>
          <p:nvPr/>
        </p:nvPicPr>
        <p:blipFill>
          <a:blip r:embed="rId4"/>
          <a:stretch/>
        </p:blipFill>
        <p:spPr>
          <a:xfrm>
            <a:off x="2438280" y="4572000"/>
            <a:ext cx="44960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10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4"/>
          <p:cNvSpPr/>
          <p:nvPr/>
        </p:nvSpPr>
        <p:spPr>
          <a:xfrm>
            <a:off x="762120" y="228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virtual memor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1295280" y="914400"/>
            <a:ext cx="685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Part of the hard disk is reserved  as R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When RAM modules become full the CPU accesses the hard disk to store and retrieve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Slower than R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6" descr="hard drive"/>
          <p:cNvPicPr/>
          <p:nvPr/>
        </p:nvPicPr>
        <p:blipFill>
          <a:blip r:embed="rId4"/>
          <a:stretch/>
        </p:blipFill>
        <p:spPr>
          <a:xfrm>
            <a:off x="2133720" y="3505320"/>
            <a:ext cx="1752480" cy="13888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7" descr="intel_370"/>
          <p:cNvPicPr/>
          <p:nvPr/>
        </p:nvPicPr>
        <p:blipFill>
          <a:blip r:embed="rId5"/>
          <a:stretch/>
        </p:blipFill>
        <p:spPr>
          <a:xfrm>
            <a:off x="3733920" y="54864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9" descr="post office"/>
          <p:cNvPicPr/>
          <p:nvPr/>
        </p:nvPicPr>
        <p:blipFill>
          <a:blip r:embed="rId6"/>
          <a:stretch/>
        </p:blipFill>
        <p:spPr>
          <a:xfrm>
            <a:off x="6095880" y="3657600"/>
            <a:ext cx="2067120" cy="1879560"/>
          </a:xfrm>
          <a:prstGeom prst="rect">
            <a:avLst/>
          </a:prstGeom>
          <a:ln w="0">
            <a:noFill/>
          </a:ln>
        </p:spPr>
      </p:pic>
      <p:sp>
        <p:nvSpPr>
          <p:cNvPr id="615" name="Line 10"/>
          <p:cNvSpPr/>
          <p:nvPr/>
        </p:nvSpPr>
        <p:spPr>
          <a:xfrm flipV="1">
            <a:off x="4419720" y="5029200"/>
            <a:ext cx="2209680" cy="990720"/>
          </a:xfrm>
          <a:prstGeom prst="line">
            <a:avLst/>
          </a:prstGeom>
          <a:ln w="50760">
            <a:solidFill>
              <a:srgbClr val="cc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11"/>
          <p:cNvSpPr/>
          <p:nvPr/>
        </p:nvSpPr>
        <p:spPr>
          <a:xfrm flipH="1" flipV="1">
            <a:off x="3505320" y="4038480"/>
            <a:ext cx="838080" cy="1905120"/>
          </a:xfrm>
          <a:prstGeom prst="line">
            <a:avLst/>
          </a:prstGeom>
          <a:ln w="50760">
            <a:solidFill>
              <a:srgbClr val="cc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12"/>
          <p:cNvSpPr/>
          <p:nvPr/>
        </p:nvSpPr>
        <p:spPr>
          <a:xfrm flipH="1" flipV="1">
            <a:off x="3200400" y="4114800"/>
            <a:ext cx="914400" cy="190512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6400800" y="4191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FUL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4"/>
          <p:cNvSpPr/>
          <p:nvPr/>
        </p:nvSpPr>
        <p:spPr>
          <a:xfrm>
            <a:off x="76212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What is the Central Processing Unit (CPU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457200" y="99072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A central processing unit (CPU) is the electronic circuitry within a computer that carries out the instructions of a computer program by performing the basic arithmetic, logical, control and input/output (I/O) operations specified by the instruc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6" descr="cpu1.jpg"/>
          <p:cNvPicPr/>
          <p:nvPr/>
        </p:nvPicPr>
        <p:blipFill>
          <a:blip r:embed="rId2"/>
          <a:stretch/>
        </p:blipFill>
        <p:spPr>
          <a:xfrm>
            <a:off x="1676520" y="3733920"/>
            <a:ext cx="2819160" cy="23065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cpu2.jpg"/>
          <p:cNvPicPr/>
          <p:nvPr/>
        </p:nvPicPr>
        <p:blipFill>
          <a:blip r:embed="rId3"/>
          <a:stretch/>
        </p:blipFill>
        <p:spPr>
          <a:xfrm>
            <a:off x="5410080" y="3733920"/>
            <a:ext cx="281952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4"/>
          <p:cNvSpPr/>
          <p:nvPr/>
        </p:nvSpPr>
        <p:spPr>
          <a:xfrm>
            <a:off x="990720" y="7621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re the types of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CP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22096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Int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6400800" y="1752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Advanced Micro Devices (AM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9144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Cyri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4495680" y="4648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Motorola (App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9" descr="02_13"/>
          <p:cNvPicPr/>
          <p:nvPr/>
        </p:nvPicPr>
        <p:blipFill>
          <a:blip r:embed="rId1"/>
          <a:stretch/>
        </p:blipFill>
        <p:spPr>
          <a:xfrm>
            <a:off x="228600" y="2209680"/>
            <a:ext cx="1433520" cy="14479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1" descr="02_14"/>
          <p:cNvPicPr/>
          <p:nvPr/>
        </p:nvPicPr>
        <p:blipFill>
          <a:blip r:embed="rId2"/>
          <a:stretch/>
        </p:blipFill>
        <p:spPr>
          <a:xfrm>
            <a:off x="1905120" y="1981080"/>
            <a:ext cx="1752480" cy="12258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4" descr="02_15"/>
          <p:cNvPicPr/>
          <p:nvPr/>
        </p:nvPicPr>
        <p:blipFill>
          <a:blip r:embed="rId3"/>
          <a:stretch/>
        </p:blipFill>
        <p:spPr>
          <a:xfrm>
            <a:off x="3886200" y="2590920"/>
            <a:ext cx="1676520" cy="1171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7" descr="02_16"/>
          <p:cNvPicPr/>
          <p:nvPr/>
        </p:nvPicPr>
        <p:blipFill>
          <a:blip r:embed="rId4"/>
          <a:stretch/>
        </p:blipFill>
        <p:spPr>
          <a:xfrm>
            <a:off x="6629400" y="2971800"/>
            <a:ext cx="1982880" cy="13874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0" descr="cyrix"/>
          <p:cNvPicPr/>
          <p:nvPr/>
        </p:nvPicPr>
        <p:blipFill>
          <a:blip r:embed="rId5"/>
          <a:stretch/>
        </p:blipFill>
        <p:spPr>
          <a:xfrm>
            <a:off x="457200" y="4876920"/>
            <a:ext cx="2235240" cy="16761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1" descr="motorola"/>
          <p:cNvPicPr/>
          <p:nvPr/>
        </p:nvPicPr>
        <p:blipFill>
          <a:blip r:embed="rId6"/>
          <a:stretch/>
        </p:blipFill>
        <p:spPr>
          <a:xfrm>
            <a:off x="4876920" y="51814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23"/>
          <p:cNvSpPr/>
          <p:nvPr/>
        </p:nvSpPr>
        <p:spPr>
          <a:xfrm>
            <a:off x="304920" y="19051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Pentium IV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25"/>
          <p:cNvSpPr/>
          <p:nvPr/>
        </p:nvSpPr>
        <p:spPr>
          <a:xfrm>
            <a:off x="205740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ntium MM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26"/>
          <p:cNvSpPr/>
          <p:nvPr/>
        </p:nvSpPr>
        <p:spPr>
          <a:xfrm>
            <a:off x="4038480" y="22096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Pentium III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a2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4"/>
          <p:cNvSpPr/>
          <p:nvPr/>
        </p:nvSpPr>
        <p:spPr>
          <a:xfrm>
            <a:off x="914400" y="380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re the components of the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P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295280" y="1143000"/>
            <a:ext cx="678204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ntrol uni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Coordinates and controls all parts of the computer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rithmetic-Logic uni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Performs arithmetic or logical oper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gis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Stores the most frequently used instructions and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8" descr="ALU_block.gif"/>
          <p:cNvPicPr/>
          <p:nvPr/>
        </p:nvPicPr>
        <p:blipFill>
          <a:blip r:embed="rId4"/>
          <a:stretch/>
        </p:blipFill>
        <p:spPr>
          <a:xfrm>
            <a:off x="1676520" y="2666880"/>
            <a:ext cx="441936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a2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838080" y="380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P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ork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1295280" y="9907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trol Uni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Manages four basic operations (machine cyc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762120" y="1828800"/>
            <a:ext cx="822960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Fetc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Gets next program instruction from the computer’s mem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ecod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Figure out what the program is telling the computer to d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Execut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Perform the requested a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Write-back (Store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Write (store) the results to a register or to memor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2"/>
          <p:cNvSpPr/>
          <p:nvPr/>
        </p:nvSpPr>
        <p:spPr>
          <a:xfrm>
            <a:off x="1447920" y="4191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rithmetic-Logic Unit (AL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erform basic arithmetic or logic oper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13"/>
          <p:cNvSpPr/>
          <p:nvPr/>
        </p:nvSpPr>
        <p:spPr>
          <a:xfrm>
            <a:off x="762120" y="5105520"/>
            <a:ext cx="64008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, Subtract, Multiply, Div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 two items to see which one is larger or small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6"/>
          <p:cNvSpPr/>
          <p:nvPr/>
        </p:nvSpPr>
        <p:spPr>
          <a:xfrm>
            <a:off x="3048120" y="4343400"/>
            <a:ext cx="3581280" cy="1752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3048120" y="2514600"/>
            <a:ext cx="1828800" cy="18288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876920" y="2514600"/>
            <a:ext cx="1752480" cy="1828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124080" y="2590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un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5410080" y="2590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441972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WordArt 22"/>
          <p:cNvSpPr txBox="1"/>
          <p:nvPr/>
        </p:nvSpPr>
        <p:spPr>
          <a:xfrm rot="19428600">
            <a:off x="3314880" y="3489480"/>
            <a:ext cx="1768320" cy="726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9459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DECOD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  <p:sp>
        <p:nvSpPr>
          <p:cNvPr id="542" name="WordArt 23"/>
          <p:cNvSpPr txBox="1"/>
          <p:nvPr/>
        </p:nvSpPr>
        <p:spPr>
          <a:xfrm rot="2618400">
            <a:off x="5028840" y="3505320"/>
            <a:ext cx="129528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EXECUT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543" name="WordArt 24"/>
          <p:cNvSpPr txBox="1"/>
          <p:nvPr/>
        </p:nvSpPr>
        <p:spPr>
          <a:xfrm rot="7581000">
            <a:off x="5070240" y="5117760"/>
            <a:ext cx="1128600" cy="366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STOR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 Black"/>
              <a:ea typeface="Arial Black"/>
            </a:endParaRPr>
          </a:p>
        </p:txBody>
      </p:sp>
      <p:sp>
        <p:nvSpPr>
          <p:cNvPr id="544" name="WordArt 25"/>
          <p:cNvSpPr txBox="1"/>
          <p:nvPr/>
        </p:nvSpPr>
        <p:spPr>
          <a:xfrm rot="13903800">
            <a:off x="3552840" y="5075280"/>
            <a:ext cx="10476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f5fa"/>
                </a:solidFill>
                <a:latin typeface="Arial Black"/>
              </a:rPr>
              <a:t>FETCH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def5fa"/>
              </a:solidFill>
              <a:latin typeface="Arial Black"/>
              <a:ea typeface="Arial Black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685800" y="6094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How a CPU 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path" presetID="64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4.45087E-006 L -0.00416 -0.15099 E">
                                      <p:cBhvr>
                                        <p:cTn id="196" dur="1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500"/>
                            </p:stCondLst>
                            <p:childTnLst>
                              <p:par>
                                <p:cTn id="198" nodeType="after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38889E-006 3.93064E-006 L 0.08247 0.00485 E">
                                      <p:cBhvr>
                                        <p:cTn id="199" dur="1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500"/>
                            </p:stCondLst>
                            <p:childTnLst>
                              <p:par>
                                <p:cTn id="201" nodeType="afterEffect" fill="hold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4.9711E-006 L -0.00416 0.09988 E">
                                      <p:cBhvr>
                                        <p:cTn id="202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4" nodeType="afterEffect" fill="hold" presetClass="pat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16667E-006 -3.12139E-006 L -0.08282 -0.00624 E">
                                      <p:cBhvr>
                                        <p:cTn id="205" dur="1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a2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4"/>
          <p:cNvSpPr/>
          <p:nvPr/>
        </p:nvSpPr>
        <p:spPr>
          <a:xfrm>
            <a:off x="914400" y="4572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etermines a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P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erformanc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219320" y="1371600"/>
            <a:ext cx="7010280" cy="29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ata bus wid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The number of pathways within the CPU that transfers data (8, 16, 32, 6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Word siz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The maximum number of bits of data that the CPU can process at a time (8 bits, 16 bits, 32 bits, 64 bi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perations per cycle (clock speed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The number of clock cycles per second measured in Megahertz (MHz) or Gigahertz (GHz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3200400" y="4751640"/>
            <a:ext cx="40384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Arial"/>
              </a:rPr>
              <a:t>Specifications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Arial"/>
              </a:rPr>
              <a:t>Clock Speed:</a:t>
            </a: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 1.0 GHz </a:t>
            </a:r>
            <a:br>
              <a:rPr sz="1400"/>
            </a:b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Arial"/>
              </a:rPr>
              <a:t>System / Front Side Bus Speed:</a:t>
            </a: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 133 MHz </a:t>
            </a:r>
            <a:br>
              <a:rPr sz="1400"/>
            </a:b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Arial"/>
              </a:rPr>
              <a:t>Level 1 Cache:</a:t>
            </a: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 16K Instruction + 16K dat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Arial"/>
              </a:rPr>
              <a:t>Level 2 Cache:</a:t>
            </a: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 256 KB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7" descr="intel_370"/>
          <p:cNvPicPr/>
          <p:nvPr/>
        </p:nvPicPr>
        <p:blipFill>
          <a:blip r:embed="rId4"/>
          <a:stretch/>
        </p:blipFill>
        <p:spPr>
          <a:xfrm>
            <a:off x="1066680" y="4800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WordArt 5"/>
          <p:cNvSpPr txBox="1"/>
          <p:nvPr/>
        </p:nvSpPr>
        <p:spPr>
          <a:xfrm>
            <a:off x="2971800" y="762120"/>
            <a:ext cx="2662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mory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1" name="Picture 2" descr="200px-DDR_RAM-3.jpg"/>
          <p:cNvPicPr/>
          <p:nvPr/>
        </p:nvPicPr>
        <p:blipFill>
          <a:blip r:embed="rId2"/>
          <a:stretch/>
        </p:blipFill>
        <p:spPr>
          <a:xfrm>
            <a:off x="380880" y="2514600"/>
            <a:ext cx="4572000" cy="13492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Hard-drive.jpg"/>
          <p:cNvPicPr/>
          <p:nvPr/>
        </p:nvPicPr>
        <p:blipFill>
          <a:blip r:embed="rId3"/>
          <a:stretch/>
        </p:blipFill>
        <p:spPr>
          <a:xfrm>
            <a:off x="4952880" y="4267080"/>
            <a:ext cx="289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4"/>
          <p:cNvSpPr/>
          <p:nvPr/>
        </p:nvSpPr>
        <p:spPr>
          <a:xfrm>
            <a:off x="914400" y="3808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What is Memor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1371600" y="114300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The physical device used to store programs (sequences of instructions) or data on a temporary or permanent basis for use in a computer or other digital electronic devi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6" descr="memory"/>
          <p:cNvPicPr/>
          <p:nvPr/>
        </p:nvPicPr>
        <p:blipFill>
          <a:blip r:embed="rId2"/>
          <a:stretch/>
        </p:blipFill>
        <p:spPr>
          <a:xfrm>
            <a:off x="762120" y="2971800"/>
            <a:ext cx="4800600" cy="22924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9" descr="bioschip"/>
          <p:cNvPicPr/>
          <p:nvPr/>
        </p:nvPicPr>
        <p:blipFill>
          <a:blip r:embed="rId3"/>
          <a:stretch/>
        </p:blipFill>
        <p:spPr>
          <a:xfrm>
            <a:off x="6095880" y="4191120"/>
            <a:ext cx="243864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30T01:34:39Z</dcterms:created>
  <dc:creator>Robert Koziel</dc:creator>
  <dc:description/>
  <dc:language>en-US</dc:language>
  <cp:lastModifiedBy>saad</cp:lastModifiedBy>
  <dcterms:modified xsi:type="dcterms:W3CDTF">2016-07-25T19:04:40Z</dcterms:modified>
  <cp:revision>68</cp:revision>
  <dc:subject/>
  <dc:title>Slide 1</dc:title>
</cp:coreProperties>
</file>